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063-BC85-4031-AFE9-0FB016A4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78-B3F5-4F0D-B705-0D9740A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6920-F2C2-4F9B-AA91-5A9D040A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64D3B-EE56-46E5-A2E5-EBCD201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6DC44-2BB6-45FD-AE36-1FDD9188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7663-146F-4646-9F61-4276AC0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24801-CFF3-454F-8CE7-DACA179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ED6A-3570-4A89-A631-0DB11F9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B4872-A8B4-4694-B6BF-B7D2F5ED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450B0-8252-408E-882A-AFBE188C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0C2D0-D4FC-4F7F-9361-D0769419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E6DE7-DA20-4376-AE3B-A94B32B8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9BD-3B39-42C1-8A71-B8D9F7BA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E8CD-80A9-43F6-961F-89FD876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C18A7-72AB-4DD9-B217-842F9552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4028E-A6AD-4C9A-8A5A-384418D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69770-85D2-4879-B802-2009E65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ED22E-3493-4B7A-B48D-A9B9FC2D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39E67-9BEC-469F-8D73-3A6ABAB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BF5EC-469B-4651-8FB7-EFF050F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2099-1120-4A69-A309-8B2A963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22D48-BDC5-4D62-AE71-EB69B76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79B42-DCB7-4D00-BCB7-DFD3F71E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295-6CB6-423F-8C3A-D0CCCE9F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BC3C-7416-4E5A-B23A-4921BF48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6D7E-6CAC-4E5D-AA2E-48C2C6B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7BD0-8BEE-440C-9F8C-4226F6ED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AC624-7064-4D5D-9BF6-056D4B4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CAF8F-9D55-4E5E-84FC-2210ECF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84A4D-8561-405C-9FBE-E64F82E3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DD71-69F0-4E5B-BAE3-DB59B445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ED8A4-83B4-4FC3-B473-1D3B406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ED81F-4FCB-4AA2-8963-DCA72B7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B71DE-DB35-442B-8F3F-71463C18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E67-0CB2-444A-B187-5E29733E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9960-80B3-4421-835A-BACD9EF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3165-AA5A-4716-B85A-218F7DF1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BDB09-028E-478E-9FC3-C8C46DFD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C871-D9F9-4E3E-A79C-DBD9CD28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DC727-12CE-4868-8B8C-93742608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E7D74-4F8C-48DA-A517-B24A0CC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D87C3-DCB5-494E-9A49-A78D698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873D6-4F92-46ED-B783-B5C0956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7256F-3B8A-4B98-9A05-457B963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73D60-3511-4E9B-87BF-A12AA59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F299-50BE-46B6-9CF8-BFAD8E8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90125-925D-4D25-8F02-11D897E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1B425-6466-4633-8CE6-4E943D0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31196-2DB4-43A8-A73D-2C9BBBD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45389-D3A8-4A1F-A29B-B4354C4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22B35-0B90-4088-BB2E-261951C3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B4145-22FF-4537-893E-6A24FA49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5B0E-1192-41AD-B119-F8DD06C9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4925F-7C96-4854-96D6-2A5B4CEE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DFA99-E387-4F2C-8A2F-78CE477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9A443-368D-4294-A820-236836CD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0D8C-4747-4881-BF6C-BC4CACC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BA842-EEE5-4CFB-A6D1-67C9F728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B09CF-E5DA-4D76-B64C-895232D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0D23A-0B42-4705-8E26-295C6CA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2DFD8-B7A6-4527-9193-D242560A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E3437-BBDD-42AD-8DBD-FB0822B5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0B1AC-5DF4-4DF8-BEEC-B1F036CC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60182-3C81-446D-BF4D-516DA59E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62651-A754-4453-815F-4A287605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DA31F-92FD-4DC6-99EA-E811132D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6A265-C62B-418F-80B5-AD0DFE0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AF6E-E70D-4A05-8A68-C8BFEE04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87692-3B15-4441-9470-5C78EE76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D86C9-4A99-4785-85D7-A02B67B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7F221-3A0D-409E-AD26-8348FD87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C2818-7DF4-4D51-9138-4BC8DE0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157CA-AD60-403E-952E-9487D2C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72A5D-5093-44B4-B9CE-706B9937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18D1C-E186-4182-8BC9-31DC9931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FEA2D-2C21-47F7-9E5E-8B3027F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1E6CC-36AA-49DD-BCDE-6F6B21A4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9A189-2AD4-4CFD-8079-EC6E0CA2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FD94-9E3B-4409-929B-B2A6561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AF0BE-0A6E-4743-8014-EB739645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0494D-1082-4BCE-99CA-3E2A56F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6258C-E4C6-4DFE-A213-2729CA45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A7989-5F68-4391-BDAE-FC7D094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BB8FB-A28A-4DC1-B904-5F10170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60205-5379-4977-BF5F-EAB352C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B41AC-3438-410B-B560-32CDF0E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4268F-9FDF-42A9-9A94-75780B6A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F5151-D1B0-4DF9-90D8-86EFB57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60449-76BE-4DE9-88C5-830DFEA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FD8D-5049-4DFF-80C6-4E8A83D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8BA05-2DE4-4819-8421-EB77C5CD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04E46-57FE-482B-BF96-D464B93F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B6C59-9F2D-4656-9B17-BB523B4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738D0-BC41-4B1B-8958-EB1DD64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43A01-CF71-4E9A-AA70-CB309AF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BBAEB-BCAE-420E-A5D3-40CD3F6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B5B03-EA0B-41C6-92BD-940E87F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D69FC-7AC8-409C-B972-75A12A97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2E8E9-B32D-414A-816C-8B30E6C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AA902-5221-40F2-9A23-2C105B6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AA24-64DF-4ED7-A538-146A650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012D9-D235-4F31-8736-33336C7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432FF-2CD3-46C4-A6D0-6D266652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D7721-3680-41EA-B4DF-3B7F278C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DAD5B-4567-4464-BFDC-7CF4E8F1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4D5F6-925B-4FA0-8287-7D12482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CF501-7A2D-4036-B1F4-5CBEFBD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17649-7FBC-47CD-AC96-92C8D14B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F509C-08AA-42C7-99D0-1CE2446E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35844-7312-45B8-AAD2-2DF1498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E21C8-DB27-4C52-998C-CAF4FD9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DDA-918A-469F-BA47-F1E7993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850-9141-4EC5-8782-CFCCCAF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A2B31-EECE-4A33-B3D3-5E34E56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CD839-90CA-4299-9D78-02F8E1B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8CAF8-BF34-4AFD-B52E-A104D5F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9F308-A01F-4DA5-BF52-75EF0040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776AA-04FF-4B29-B500-C558ACFC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ECE17-EDFD-453A-879F-516E3D40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AEE0B-9E95-48E4-8909-0356E0F2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3742A-83EF-42AA-AB88-796F609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1AF8A-17BA-4199-98CF-9C6C0EF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F557C-6983-4341-94B4-23E4055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0BEB-B98B-41D8-8542-AA52B7A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6E694-7D83-4104-9F94-FDDB983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6D934-8540-4424-8D8C-1ECB26DE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F2299-9816-40F5-824E-B887D77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21751-7DB4-4B5E-B69E-89B3C4A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61898-54CC-41F2-8F38-364A536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6ACF3-14F6-4D97-A3FD-A38019E0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2654F-EB07-432D-AA5C-AEF120A6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60244-9DA3-423A-B8EE-637BFF89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EDE11-1536-493A-A1E3-40DBDCE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5DBF9-8680-4D40-A56C-EFFAF66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5F4-8613-48E2-AA56-78FDE97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14525-9E27-48F1-A98F-DEB0086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373DC-73D1-4859-B534-A593F07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45A07-91A3-4C93-9EF8-35185186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108B6-7416-4E29-811D-4F9D4ED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BE2E5-1821-4F99-98BD-8FF8B8B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E27E6-BFDB-469F-A275-2BCAEED7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D41AE-2ADE-4A73-961B-D525C4D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FF2AD-CB9E-4491-9009-235FF88A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617F5-C333-46C8-A3B1-7D7DCC40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0E5847-4F3B-4A5F-B244-5B6CF969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F21-5D2A-4526-91AD-9624C9BB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C5C45-E1BC-4FCC-91E0-C38DC34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09FC9-CEB8-4219-AFB5-1C8ACD6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8F75F-E855-4AD4-B84B-11917D4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69F69-D288-459E-BEBB-BB9A00B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EF168-368A-4623-8D2F-AFF7FD7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CF1D8-66F4-4E0B-9948-713CBC7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467D8-96F5-4718-9C2B-1142AE1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613F3-A67F-41C0-BE00-B79744D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BE7D1-0859-43CE-B5EE-BC18F00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DA0B2-E624-439A-A3AB-B8CE2303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12B4-AAB3-4E00-9C6A-843E12FD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38EAF-CFA0-44E1-9C3D-768FD3F4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0B120-FD34-4981-A5AE-7690F0AB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CD81C-AF7D-4463-B703-9082587C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F3D78-6A5A-4D4D-92C4-B67ED74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C361E-A645-453A-A83B-D41096CC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A6473-3A58-456F-AB8F-CE1CA81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775FE-9DE6-42A7-84FB-CCDC355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39715-8E00-4C76-BEEC-4F38345E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ED353-7701-4104-B15C-C235E6D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DE906-77ED-4AFF-8B7C-6929A21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B925-FE92-4255-AE33-228C1CB7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1D457-99E7-43E2-8603-0A5AB11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5E56D-B1ED-45F9-A8A7-0AAFACDD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153B6-7987-4E26-8D1E-DFEBBA5A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62B4-DD69-49E1-9A53-9CF6C20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DBB7-EF07-4098-BC87-207CEFEB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E559-4245-4C3C-A74D-9FB21F8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FD60-1E0E-47C6-A05F-B562CE0E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032-D090-4D91-8EEE-3E9C30A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A89C-55BE-4D92-AC8D-EBC0A8D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50FB-87EB-4F19-B4BD-E293BD8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F2BA-7DB3-41FE-A7EC-B111EA5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53BF-E811-44A5-A927-D28EBD7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3C49-3770-4943-A668-4665D2D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B63A-6744-4D98-818D-81463B8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32D1-0AD6-448A-A4CB-9C7CF5B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6599-275C-4817-BDF7-59216820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3548-BAD4-4DD4-BB8F-9032EAA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0113-C5B8-4704-88A8-79C8066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C66-9AE4-4A33-8DF1-5A35F45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2C22-6F4B-4AB7-971F-6A058FC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085B-DCBA-47DF-9386-A65BADD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AD39-C943-4679-9908-74DE7B27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8F24-009A-4469-A2B2-D210C2E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CB48-2668-4D4E-AE01-A524D34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8188-928C-469C-97BD-0EECF70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3DE6-ED93-4FF7-8F50-EA9A535A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B361-93A6-413B-B7DD-EAEF8C3B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ED04-D0A6-45DF-8C42-448D0820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2A91-8759-4F17-8FA9-70A3C322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063-4B19-4F99-B252-7B0F5C99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2AA4-F1C9-46A7-9FB9-35B5128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E9305-9CE6-4DB9-8612-B00B61D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4F71-7746-42EC-BDC8-2545BF66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3D569-88C4-4A29-93D8-2A459DA7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D319-2D9E-4088-9D3C-4F33A47E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52AB-EC6A-4EB4-A5BC-906D25D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3FA5-60C8-48F6-9C0F-585FF00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4122-B29E-4B02-A4BC-B7C4CEF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F54C-E88D-4CCF-BCEA-A137049F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18F2-20EE-4719-B939-47952829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DDA-79A9-4C07-B4AF-6BA939F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308E-D186-4270-8251-B857D117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AF33-449D-4113-B26D-005F4D91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161D-72FD-440D-8FFB-AE89400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99ED-0CAF-4E87-A09A-3FA4753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D6C9-6C95-426C-AC7F-EE83BB98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A255-9C27-40DF-B29D-A4B88AE4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1777-6423-4209-A744-311610E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73AC-7655-4FF2-9154-5F38063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67966-5220-423F-B855-F229F51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313B-5252-43D1-9D3B-2050919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19A-FBF7-49B2-9591-C46CBEB5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77A3-A697-49F2-AB8D-F249B5E5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BE32-A99A-49D6-906C-36023E33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13DB-2A9B-453A-A5F3-FBD3599C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5CAA-68A5-483F-860D-5F0CED4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C4FE3-5C88-4896-AD16-DF72E6A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2F18-DA6E-4675-A895-A994F7DC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253B-8C49-4F6E-9C6D-DCA35F9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08CD-E62A-4F43-95A1-5B8EA8F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DFFF-0595-461E-95D5-270A4CE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CF952-229C-4530-BB7C-B7F093F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4EC-431E-483F-9FF6-3D7F5EA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BEBC-1E0B-48AF-9AC4-BDF8D965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FB91-550C-4E1A-AF06-57028C79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FBD4-2C7A-42F1-8CBA-3C94EBE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ACABF-89D8-4505-BA99-FCA59361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8A7C-ED5B-484D-A099-36D126BC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56671-950E-48ED-9031-6E265252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B65A-2C2C-4D5F-805C-D2C9B10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5A06C-D7A3-44E9-A753-C2BB1AD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CDB3-88AA-45D3-8CBD-97D0DA4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98A7-7589-428D-B780-D6D3DDC4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001-BCD4-44B8-9E3B-F5D8B29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2ABB4-8875-4BF2-B491-B87ED67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57B8A-4276-4220-8ED9-14EDE80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15FB-7DAF-484C-A564-8B57CFD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9483-2D20-4577-BDD1-D69D325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5BA0C-594D-4443-A648-ACCAEEF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3DEC-B9B1-482F-A1B8-F781FD37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47839-28D0-40D0-A3D4-792DF04C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7990A-E0D6-4BA5-BAAC-446C948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36AC9-DFD6-447A-8C06-99DD20E9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49455-09DA-41FD-BC25-1C17940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0296-B641-41AA-A3B2-C28B3D0EB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A9E6-CFBA-43F5-BA94-AB8015EFD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E55-40EF-4371-8F0B-8F93D9631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BC0-FFC4-400D-8458-B8667D822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8857-0707-48E3-BE98-73370342A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7EEC-BE8D-4253-B787-DCF4B93C1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283-2F8B-4D26-96AD-C82F07455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16A-B339-49D0-AED9-E03817E60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DA63-9F0E-46F4-AD40-B2D294896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92F-3B12-46F0-965E-D5FA40CC0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A532-2CAA-478B-A9B2-B566AF175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5C5-686E-40B2-88A9-344918A9CB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98F-FF21-41CA-930D-94C762EDA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598-48C7-44F2-B1BD-25E2E7B26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23A-209B-41F0-854D-77003F161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354-AE4D-4517-9DBF-89743B8F0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21A4-89AD-4B09-8DFD-F6926C7D6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B55-F88E-4057-9691-31FFDE2EA6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82B-9D9A-4ADA-B662-8AB9D199B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40E8-FCB5-4386-8EE3-B0E239022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1A05-6120-42EA-83B0-ED0D704DB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A3C1-60A4-46BD-A5C8-A0DB34BED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174E-EAE8-474E-927F-0626B365B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BC2F-A42A-41F3-BFA2-6D55692EF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204-79FA-4853-A528-990E6B729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4495-F6AC-40C0-B5A0-BCB7574DC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3DCA-7782-44FE-81E7-179CEDBFC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68D-2A32-4C5C-A1EE-C49065AD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85E6-B280-4774-9E64-E0883363A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DBB0-97CF-45D6-80F4-748E5C6A8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296-0A0D-423A-8819-E05243B869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C09D-1D9E-491B-942A-42937C40E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A7C-0038-43B0-8566-D403C1D23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FF2B-6980-4899-86EE-45F929B9DC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F48-ED0C-411E-8309-3DD53762B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0096-0163-405B-A2D1-259A57E56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3D27-557B-45D0-8E40-07736C4EE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E3F-CBC4-4301-B9ED-B7373C1A3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7CE0-8382-40B5-B091-F3FDD91B6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BAB-E6EA-4F48-949F-5D9B7604C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057800" cy="942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5819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313840" cy="477216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2" descr=""/>
          <p:cNvPicPr/>
          <p:nvPr/>
        </p:nvPicPr>
        <p:blipFill>
          <a:blip r:embed="rId2"/>
          <a:stretch/>
        </p:blipFill>
        <p:spPr>
          <a:xfrm>
            <a:off x="6875640" y="990720"/>
            <a:ext cx="1800000" cy="4284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3" descr=""/>
          <p:cNvPicPr/>
          <p:nvPr/>
        </p:nvPicPr>
        <p:blipFill>
          <a:blip r:embed="rId3"/>
          <a:stretch/>
        </p:blipFill>
        <p:spPr>
          <a:xfrm>
            <a:off x="1403280" y="1465200"/>
            <a:ext cx="4897440" cy="42876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4" descr=""/>
          <p:cNvPicPr/>
          <p:nvPr/>
        </p:nvPicPr>
        <p:blipFill>
          <a:blip r:embed="rId4"/>
          <a:stretch/>
        </p:blipFill>
        <p:spPr>
          <a:xfrm>
            <a:off x="7740720" y="1989000"/>
            <a:ext cx="1008000" cy="3700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6" descr=""/>
          <p:cNvPicPr/>
          <p:nvPr/>
        </p:nvPicPr>
        <p:blipFill>
          <a:blip r:embed="rId5"/>
          <a:stretch/>
        </p:blipFill>
        <p:spPr>
          <a:xfrm>
            <a:off x="1042920" y="2460600"/>
            <a:ext cx="1008000" cy="3700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7" descr=""/>
          <p:cNvPicPr/>
          <p:nvPr/>
        </p:nvPicPr>
        <p:blipFill>
          <a:blip r:embed="rId6"/>
          <a:stretch/>
        </p:blipFill>
        <p:spPr>
          <a:xfrm>
            <a:off x="1403280" y="2898720"/>
            <a:ext cx="6697800" cy="4287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8" descr=""/>
          <p:cNvPicPr/>
          <p:nvPr/>
        </p:nvPicPr>
        <p:blipFill>
          <a:blip r:embed="rId7"/>
          <a:stretch/>
        </p:blipFill>
        <p:spPr>
          <a:xfrm>
            <a:off x="6012000" y="3429000"/>
            <a:ext cx="2663640" cy="36972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9" descr=""/>
          <p:cNvPicPr/>
          <p:nvPr/>
        </p:nvPicPr>
        <p:blipFill>
          <a:blip r:embed="rId8"/>
          <a:stretch/>
        </p:blipFill>
        <p:spPr>
          <a:xfrm>
            <a:off x="539640" y="3860640"/>
            <a:ext cx="6696360" cy="42876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10" descr=""/>
          <p:cNvPicPr/>
          <p:nvPr/>
        </p:nvPicPr>
        <p:blipFill>
          <a:blip r:embed="rId9"/>
          <a:stretch/>
        </p:blipFill>
        <p:spPr>
          <a:xfrm>
            <a:off x="6012000" y="4365720"/>
            <a:ext cx="2232000" cy="36972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1" descr=""/>
          <p:cNvPicPr/>
          <p:nvPr/>
        </p:nvPicPr>
        <p:blipFill>
          <a:blip r:embed="rId10"/>
          <a:stretch/>
        </p:blipFill>
        <p:spPr>
          <a:xfrm>
            <a:off x="4859280" y="4849920"/>
            <a:ext cx="3816360" cy="36972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12" descr=""/>
          <p:cNvPicPr/>
          <p:nvPr/>
        </p:nvPicPr>
        <p:blipFill>
          <a:blip r:embed="rId11"/>
          <a:stretch/>
        </p:blipFill>
        <p:spPr>
          <a:xfrm>
            <a:off x="1187280" y="5321160"/>
            <a:ext cx="38163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324000" y="979560"/>
            <a:ext cx="84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600120" y="860400"/>
            <a:ext cx="7943760" cy="5724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2" descr=""/>
          <p:cNvPicPr/>
          <p:nvPr/>
        </p:nvPicPr>
        <p:blipFill>
          <a:blip r:embed="rId2"/>
          <a:stretch/>
        </p:blipFill>
        <p:spPr>
          <a:xfrm>
            <a:off x="1476360" y="1380960"/>
            <a:ext cx="647640" cy="3700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3" descr=""/>
          <p:cNvPicPr/>
          <p:nvPr/>
        </p:nvPicPr>
        <p:blipFill>
          <a:blip r:embed="rId3"/>
          <a:stretch/>
        </p:blipFill>
        <p:spPr>
          <a:xfrm>
            <a:off x="6156360" y="1854360"/>
            <a:ext cx="1871640" cy="3697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4" descr=""/>
          <p:cNvPicPr/>
          <p:nvPr/>
        </p:nvPicPr>
        <p:blipFill>
          <a:blip r:embed="rId4"/>
          <a:stretch/>
        </p:blipFill>
        <p:spPr>
          <a:xfrm>
            <a:off x="2556000" y="3305160"/>
            <a:ext cx="6048360" cy="37008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5" descr=""/>
          <p:cNvPicPr/>
          <p:nvPr/>
        </p:nvPicPr>
        <p:blipFill>
          <a:blip r:embed="rId5"/>
          <a:stretch/>
        </p:blipFill>
        <p:spPr>
          <a:xfrm>
            <a:off x="826920" y="3768840"/>
            <a:ext cx="18734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596880" y="797040"/>
            <a:ext cx="7951680" cy="452412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2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1297080" cy="36972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3" descr=""/>
          <p:cNvPicPr/>
          <p:nvPr/>
        </p:nvPicPr>
        <p:blipFill>
          <a:blip r:embed="rId3"/>
          <a:stretch/>
        </p:blipFill>
        <p:spPr>
          <a:xfrm>
            <a:off x="826920" y="2266920"/>
            <a:ext cx="1297080" cy="37008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4" descr=""/>
          <p:cNvPicPr/>
          <p:nvPr/>
        </p:nvPicPr>
        <p:blipFill>
          <a:blip r:embed="rId4"/>
          <a:stretch/>
        </p:blipFill>
        <p:spPr>
          <a:xfrm>
            <a:off x="6875640" y="3213000"/>
            <a:ext cx="1800000" cy="37008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5" descr=""/>
          <p:cNvPicPr/>
          <p:nvPr/>
        </p:nvPicPr>
        <p:blipFill>
          <a:blip r:embed="rId5"/>
          <a:stretch/>
        </p:blipFill>
        <p:spPr>
          <a:xfrm>
            <a:off x="611280" y="3716280"/>
            <a:ext cx="7848360" cy="37008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6" descr=""/>
          <p:cNvPicPr/>
          <p:nvPr/>
        </p:nvPicPr>
        <p:blipFill>
          <a:blip r:embed="rId6"/>
          <a:stretch/>
        </p:blipFill>
        <p:spPr>
          <a:xfrm>
            <a:off x="611280" y="4211640"/>
            <a:ext cx="7848360" cy="36972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7" descr=""/>
          <p:cNvPicPr/>
          <p:nvPr/>
        </p:nvPicPr>
        <p:blipFill>
          <a:blip r:embed="rId7"/>
          <a:stretch/>
        </p:blipFill>
        <p:spPr>
          <a:xfrm>
            <a:off x="684360" y="4662360"/>
            <a:ext cx="72723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877240" cy="61149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070080" y="1865160"/>
            <a:ext cx="1008360" cy="2876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4788000" y="1874880"/>
            <a:ext cx="720720" cy="28728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" descr=""/>
          <p:cNvPicPr/>
          <p:nvPr/>
        </p:nvPicPr>
        <p:blipFill>
          <a:blip r:embed="rId4"/>
          <a:stretch/>
        </p:blipFill>
        <p:spPr>
          <a:xfrm>
            <a:off x="6156360" y="1865160"/>
            <a:ext cx="1224000" cy="2876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" descr=""/>
          <p:cNvPicPr/>
          <p:nvPr/>
        </p:nvPicPr>
        <p:blipFill>
          <a:blip r:embed="rId5"/>
          <a:stretch/>
        </p:blipFill>
        <p:spPr>
          <a:xfrm>
            <a:off x="2124000" y="268920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6" descr=""/>
          <p:cNvPicPr/>
          <p:nvPr/>
        </p:nvPicPr>
        <p:blipFill>
          <a:blip r:embed="rId6"/>
          <a:stretch/>
        </p:blipFill>
        <p:spPr>
          <a:xfrm>
            <a:off x="3851280" y="267984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7" descr=""/>
          <p:cNvPicPr/>
          <p:nvPr/>
        </p:nvPicPr>
        <p:blipFill>
          <a:blip r:embed="rId7"/>
          <a:stretch/>
        </p:blipFill>
        <p:spPr>
          <a:xfrm>
            <a:off x="3851280" y="3078000"/>
            <a:ext cx="1225440" cy="289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8" descr=""/>
          <p:cNvPicPr/>
          <p:nvPr/>
        </p:nvPicPr>
        <p:blipFill>
          <a:blip r:embed="rId8"/>
          <a:stretch/>
        </p:blipFill>
        <p:spPr>
          <a:xfrm>
            <a:off x="8388360" y="306864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9" descr=""/>
          <p:cNvPicPr/>
          <p:nvPr/>
        </p:nvPicPr>
        <p:blipFill>
          <a:blip r:embed="rId9"/>
          <a:stretch/>
        </p:blipFill>
        <p:spPr>
          <a:xfrm>
            <a:off x="755640" y="350028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0" descr=""/>
          <p:cNvPicPr/>
          <p:nvPr/>
        </p:nvPicPr>
        <p:blipFill>
          <a:blip r:embed="rId10"/>
          <a:stretch/>
        </p:blipFill>
        <p:spPr>
          <a:xfrm>
            <a:off x="5076720" y="3490920"/>
            <a:ext cx="935280" cy="28908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1" descr=""/>
          <p:cNvPicPr/>
          <p:nvPr/>
        </p:nvPicPr>
        <p:blipFill>
          <a:blip r:embed="rId11"/>
          <a:stretch/>
        </p:blipFill>
        <p:spPr>
          <a:xfrm>
            <a:off x="1763640" y="3900600"/>
            <a:ext cx="1295640" cy="28872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2" descr=""/>
          <p:cNvPicPr/>
          <p:nvPr/>
        </p:nvPicPr>
        <p:blipFill>
          <a:blip r:embed="rId12"/>
          <a:stretch/>
        </p:blipFill>
        <p:spPr>
          <a:xfrm>
            <a:off x="7380360" y="3900600"/>
            <a:ext cx="936720" cy="28872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3" descr=""/>
          <p:cNvPicPr/>
          <p:nvPr/>
        </p:nvPicPr>
        <p:blipFill>
          <a:blip r:embed="rId13"/>
          <a:stretch/>
        </p:blipFill>
        <p:spPr>
          <a:xfrm>
            <a:off x="1835280" y="5445000"/>
            <a:ext cx="1368360" cy="28764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4" descr=""/>
          <p:cNvPicPr/>
          <p:nvPr/>
        </p:nvPicPr>
        <p:blipFill>
          <a:blip r:embed="rId14"/>
          <a:stretch/>
        </p:blipFill>
        <p:spPr>
          <a:xfrm>
            <a:off x="4643280" y="5445000"/>
            <a:ext cx="1368720" cy="28764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15" descr=""/>
          <p:cNvPicPr/>
          <p:nvPr/>
        </p:nvPicPr>
        <p:blipFill>
          <a:blip r:embed="rId15"/>
          <a:stretch/>
        </p:blipFill>
        <p:spPr>
          <a:xfrm>
            <a:off x="7020000" y="5445000"/>
            <a:ext cx="1368360" cy="2876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6" descr=""/>
          <p:cNvPicPr/>
          <p:nvPr/>
        </p:nvPicPr>
        <p:blipFill>
          <a:blip r:embed="rId16"/>
          <a:stretch/>
        </p:blipFill>
        <p:spPr>
          <a:xfrm>
            <a:off x="1476360" y="6215040"/>
            <a:ext cx="934920" cy="2872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7" descr=""/>
          <p:cNvPicPr/>
          <p:nvPr/>
        </p:nvPicPr>
        <p:blipFill>
          <a:blip r:embed="rId17"/>
          <a:stretch/>
        </p:blipFill>
        <p:spPr>
          <a:xfrm>
            <a:off x="2771640" y="6216480"/>
            <a:ext cx="936720" cy="28908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18" descr=""/>
          <p:cNvPicPr/>
          <p:nvPr/>
        </p:nvPicPr>
        <p:blipFill>
          <a:blip r:embed="rId18"/>
          <a:stretch/>
        </p:blipFill>
        <p:spPr>
          <a:xfrm>
            <a:off x="4788000" y="6215040"/>
            <a:ext cx="936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266760" y="952560"/>
            <a:ext cx="8610480" cy="5572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505080" cy="2876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3" descr=""/>
          <p:cNvPicPr/>
          <p:nvPr/>
        </p:nvPicPr>
        <p:blipFill>
          <a:blip r:embed="rId3"/>
          <a:stretch/>
        </p:blipFill>
        <p:spPr>
          <a:xfrm>
            <a:off x="2987640" y="1125360"/>
            <a:ext cx="504720" cy="28764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4" descr=""/>
          <p:cNvPicPr/>
          <p:nvPr/>
        </p:nvPicPr>
        <p:blipFill>
          <a:blip r:embed="rId4"/>
          <a:stretch/>
        </p:blipFill>
        <p:spPr>
          <a:xfrm>
            <a:off x="4356000" y="1125360"/>
            <a:ext cx="503280" cy="287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5" descr=""/>
          <p:cNvPicPr/>
          <p:nvPr/>
        </p:nvPicPr>
        <p:blipFill>
          <a:blip r:embed="rId5"/>
          <a:stretch/>
        </p:blipFill>
        <p:spPr>
          <a:xfrm>
            <a:off x="4202280" y="1546200"/>
            <a:ext cx="502920" cy="28908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" descr=""/>
          <p:cNvPicPr/>
          <p:nvPr/>
        </p:nvPicPr>
        <p:blipFill>
          <a:blip r:embed="rId6"/>
          <a:stretch/>
        </p:blipFill>
        <p:spPr>
          <a:xfrm>
            <a:off x="6732720" y="1125360"/>
            <a:ext cx="503280" cy="28764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7" descr=""/>
          <p:cNvPicPr/>
          <p:nvPr/>
        </p:nvPicPr>
        <p:blipFill>
          <a:blip r:embed="rId7"/>
          <a:stretch/>
        </p:blipFill>
        <p:spPr>
          <a:xfrm>
            <a:off x="6659640" y="1536840"/>
            <a:ext cx="504720" cy="288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8" descr=""/>
          <p:cNvPicPr/>
          <p:nvPr/>
        </p:nvPicPr>
        <p:blipFill>
          <a:blip r:embed="rId8"/>
          <a:stretch/>
        </p:blipFill>
        <p:spPr>
          <a:xfrm>
            <a:off x="1116000" y="2954160"/>
            <a:ext cx="2519280" cy="2890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9" descr=""/>
          <p:cNvPicPr/>
          <p:nvPr/>
        </p:nvPicPr>
        <p:blipFill>
          <a:blip r:embed="rId9"/>
          <a:stretch/>
        </p:blipFill>
        <p:spPr>
          <a:xfrm>
            <a:off x="4067280" y="2965320"/>
            <a:ext cx="2305080" cy="28764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10" descr=""/>
          <p:cNvPicPr/>
          <p:nvPr/>
        </p:nvPicPr>
        <p:blipFill>
          <a:blip r:embed="rId10"/>
          <a:stretch/>
        </p:blipFill>
        <p:spPr>
          <a:xfrm>
            <a:off x="6516720" y="2965320"/>
            <a:ext cx="2158920" cy="2876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11" descr=""/>
          <p:cNvPicPr/>
          <p:nvPr/>
        </p:nvPicPr>
        <p:blipFill>
          <a:blip r:embed="rId11"/>
          <a:stretch/>
        </p:blipFill>
        <p:spPr>
          <a:xfrm>
            <a:off x="6516720" y="3386160"/>
            <a:ext cx="2158920" cy="28908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12" descr=""/>
          <p:cNvPicPr/>
          <p:nvPr/>
        </p:nvPicPr>
        <p:blipFill>
          <a:blip r:embed="rId12"/>
          <a:stretch/>
        </p:blipFill>
        <p:spPr>
          <a:xfrm>
            <a:off x="961920" y="3789360"/>
            <a:ext cx="2952720" cy="28728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13" descr=""/>
          <p:cNvPicPr/>
          <p:nvPr/>
        </p:nvPicPr>
        <p:blipFill>
          <a:blip r:embed="rId13"/>
          <a:stretch/>
        </p:blipFill>
        <p:spPr>
          <a:xfrm>
            <a:off x="971640" y="4208400"/>
            <a:ext cx="2952720" cy="28908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14" descr=""/>
          <p:cNvPicPr/>
          <p:nvPr/>
        </p:nvPicPr>
        <p:blipFill>
          <a:blip r:embed="rId14"/>
          <a:stretch/>
        </p:blipFill>
        <p:spPr>
          <a:xfrm>
            <a:off x="4087800" y="3789360"/>
            <a:ext cx="23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5" descr=""/>
          <p:cNvPicPr/>
          <p:nvPr/>
        </p:nvPicPr>
        <p:blipFill>
          <a:blip r:embed="rId15"/>
          <a:stretch/>
        </p:blipFill>
        <p:spPr>
          <a:xfrm>
            <a:off x="4016520" y="4335480"/>
            <a:ext cx="2355840" cy="28728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16" descr=""/>
          <p:cNvPicPr/>
          <p:nvPr/>
        </p:nvPicPr>
        <p:blipFill>
          <a:blip r:embed="rId16"/>
          <a:stretch/>
        </p:blipFill>
        <p:spPr>
          <a:xfrm>
            <a:off x="3995640" y="4754520"/>
            <a:ext cx="2355840" cy="28908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17" descr=""/>
          <p:cNvPicPr/>
          <p:nvPr/>
        </p:nvPicPr>
        <p:blipFill>
          <a:blip r:embed="rId17"/>
          <a:stretch/>
        </p:blipFill>
        <p:spPr>
          <a:xfrm>
            <a:off x="6588000" y="4199040"/>
            <a:ext cx="2160720" cy="43164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18" descr=""/>
          <p:cNvPicPr/>
          <p:nvPr/>
        </p:nvPicPr>
        <p:blipFill>
          <a:blip r:embed="rId18"/>
          <a:stretch/>
        </p:blipFill>
        <p:spPr>
          <a:xfrm>
            <a:off x="6516720" y="4745160"/>
            <a:ext cx="2135160" cy="28728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19" descr=""/>
          <p:cNvPicPr/>
          <p:nvPr/>
        </p:nvPicPr>
        <p:blipFill>
          <a:blip r:embed="rId19"/>
          <a:stretch/>
        </p:blipFill>
        <p:spPr>
          <a:xfrm>
            <a:off x="2494080" y="5413320"/>
            <a:ext cx="503280" cy="28728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0" descr=""/>
          <p:cNvPicPr/>
          <p:nvPr/>
        </p:nvPicPr>
        <p:blipFill>
          <a:blip r:embed="rId20"/>
          <a:stretch/>
        </p:blipFill>
        <p:spPr>
          <a:xfrm>
            <a:off x="3213000" y="5815080"/>
            <a:ext cx="505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162000" y="1514520"/>
            <a:ext cx="8820000" cy="38289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2" descr=""/>
          <p:cNvPicPr/>
          <p:nvPr/>
        </p:nvPicPr>
        <p:blipFill>
          <a:blip r:embed="rId2"/>
          <a:stretch/>
        </p:blipFill>
        <p:spPr>
          <a:xfrm>
            <a:off x="3059280" y="2028960"/>
            <a:ext cx="720720" cy="28728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" descr=""/>
          <p:cNvPicPr/>
          <p:nvPr/>
        </p:nvPicPr>
        <p:blipFill>
          <a:blip r:embed="rId3"/>
          <a:stretch/>
        </p:blipFill>
        <p:spPr>
          <a:xfrm>
            <a:off x="2050920" y="2440080"/>
            <a:ext cx="936720" cy="28872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4" descr=""/>
          <p:cNvPicPr/>
          <p:nvPr/>
        </p:nvPicPr>
        <p:blipFill>
          <a:blip r:embed="rId4"/>
          <a:stretch/>
        </p:blipFill>
        <p:spPr>
          <a:xfrm>
            <a:off x="4356000" y="2019240"/>
            <a:ext cx="936720" cy="28728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5" descr=""/>
          <p:cNvPicPr/>
          <p:nvPr/>
        </p:nvPicPr>
        <p:blipFill>
          <a:blip r:embed="rId5"/>
          <a:stretch/>
        </p:blipFill>
        <p:spPr>
          <a:xfrm>
            <a:off x="4211640" y="283356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" descr=""/>
          <p:cNvPicPr/>
          <p:nvPr/>
        </p:nvPicPr>
        <p:blipFill>
          <a:blip r:embed="rId6"/>
          <a:stretch/>
        </p:blipFill>
        <p:spPr>
          <a:xfrm>
            <a:off x="5508720" y="3243240"/>
            <a:ext cx="934920" cy="28728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7" descr=""/>
          <p:cNvPicPr/>
          <p:nvPr/>
        </p:nvPicPr>
        <p:blipFill>
          <a:blip r:embed="rId7"/>
          <a:stretch/>
        </p:blipFill>
        <p:spPr>
          <a:xfrm>
            <a:off x="7812000" y="162864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8" descr=""/>
          <p:cNvPicPr/>
          <p:nvPr/>
        </p:nvPicPr>
        <p:blipFill>
          <a:blip r:embed="rId8"/>
          <a:stretch/>
        </p:blipFill>
        <p:spPr>
          <a:xfrm>
            <a:off x="8440560" y="2028960"/>
            <a:ext cx="432000" cy="28728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9" descr=""/>
          <p:cNvPicPr/>
          <p:nvPr/>
        </p:nvPicPr>
        <p:blipFill>
          <a:blip r:embed="rId9"/>
          <a:stretch/>
        </p:blipFill>
        <p:spPr>
          <a:xfrm>
            <a:off x="6640560" y="2440080"/>
            <a:ext cx="431640" cy="28872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0" descr=""/>
          <p:cNvPicPr/>
          <p:nvPr/>
        </p:nvPicPr>
        <p:blipFill>
          <a:blip r:embed="rId10"/>
          <a:stretch/>
        </p:blipFill>
        <p:spPr>
          <a:xfrm>
            <a:off x="7924680" y="2843280"/>
            <a:ext cx="935280" cy="28728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1" descr=""/>
          <p:cNvPicPr/>
          <p:nvPr/>
        </p:nvPicPr>
        <p:blipFill>
          <a:blip r:embed="rId11"/>
          <a:stretch/>
        </p:blipFill>
        <p:spPr>
          <a:xfrm>
            <a:off x="6659640" y="3243240"/>
            <a:ext cx="433440" cy="2872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12" descr=""/>
          <p:cNvPicPr/>
          <p:nvPr/>
        </p:nvPicPr>
        <p:blipFill>
          <a:blip r:embed="rId12"/>
          <a:stretch/>
        </p:blipFill>
        <p:spPr>
          <a:xfrm>
            <a:off x="3059280" y="4548240"/>
            <a:ext cx="936360" cy="28872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13" descr=""/>
          <p:cNvPicPr/>
          <p:nvPr/>
        </p:nvPicPr>
        <p:blipFill>
          <a:blip r:embed="rId13"/>
          <a:stretch/>
        </p:blipFill>
        <p:spPr>
          <a:xfrm>
            <a:off x="7236000" y="4548240"/>
            <a:ext cx="1584000" cy="28872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14" descr=""/>
          <p:cNvPicPr/>
          <p:nvPr/>
        </p:nvPicPr>
        <p:blipFill>
          <a:blip r:embed="rId14"/>
          <a:stretch/>
        </p:blipFill>
        <p:spPr>
          <a:xfrm>
            <a:off x="2771640" y="4951440"/>
            <a:ext cx="9367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2" descr=""/>
          <p:cNvPicPr/>
          <p:nvPr/>
        </p:nvPicPr>
        <p:blipFill>
          <a:blip r:embed="rId1"/>
          <a:stretch/>
        </p:blipFill>
        <p:spPr>
          <a:xfrm>
            <a:off x="320760" y="853920"/>
            <a:ext cx="8504280" cy="593424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2"/>
          <a:stretch/>
        </p:blipFill>
        <p:spPr>
          <a:xfrm>
            <a:off x="8028000" y="2784600"/>
            <a:ext cx="431640" cy="4284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3" descr=""/>
          <p:cNvPicPr/>
          <p:nvPr/>
        </p:nvPicPr>
        <p:blipFill>
          <a:blip r:embed="rId3"/>
          <a:stretch/>
        </p:blipFill>
        <p:spPr>
          <a:xfrm>
            <a:off x="8018640" y="482112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244440" y="914400"/>
            <a:ext cx="8656560" cy="579132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2" descr=""/>
          <p:cNvPicPr/>
          <p:nvPr/>
        </p:nvPicPr>
        <p:blipFill>
          <a:blip r:embed="rId2"/>
          <a:stretch/>
        </p:blipFill>
        <p:spPr>
          <a:xfrm>
            <a:off x="8028000" y="3141720"/>
            <a:ext cx="431640" cy="4284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3" descr=""/>
          <p:cNvPicPr/>
          <p:nvPr/>
        </p:nvPicPr>
        <p:blipFill>
          <a:blip r:embed="rId3"/>
          <a:stretch/>
        </p:blipFill>
        <p:spPr>
          <a:xfrm>
            <a:off x="8028000" y="6249960"/>
            <a:ext cx="4316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2" descr=""/>
          <p:cNvPicPr/>
          <p:nvPr/>
        </p:nvPicPr>
        <p:blipFill>
          <a:blip r:embed="rId1"/>
          <a:stretch/>
        </p:blipFill>
        <p:spPr>
          <a:xfrm>
            <a:off x="257040" y="917640"/>
            <a:ext cx="8629920" cy="57420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2" descr=""/>
          <p:cNvPicPr/>
          <p:nvPr/>
        </p:nvPicPr>
        <p:blipFill>
          <a:blip r:embed="rId2"/>
          <a:stretch/>
        </p:blipFill>
        <p:spPr>
          <a:xfrm>
            <a:off x="8028000" y="3068640"/>
            <a:ext cx="431640" cy="4287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3" descr=""/>
          <p:cNvPicPr/>
          <p:nvPr/>
        </p:nvPicPr>
        <p:blipFill>
          <a:blip r:embed="rId3"/>
          <a:stretch/>
        </p:blipFill>
        <p:spPr>
          <a:xfrm>
            <a:off x="8101080" y="6240600"/>
            <a:ext cx="431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285840" y="860400"/>
            <a:ext cx="8572320" cy="572472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2"/>
          <a:stretch/>
        </p:blipFill>
        <p:spPr>
          <a:xfrm>
            <a:off x="6300720" y="2882880"/>
            <a:ext cx="4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3" descr=""/>
          <p:cNvPicPr/>
          <p:nvPr/>
        </p:nvPicPr>
        <p:blipFill>
          <a:blip r:embed="rId3"/>
          <a:stretch/>
        </p:blipFill>
        <p:spPr>
          <a:xfrm>
            <a:off x="5435640" y="4489560"/>
            <a:ext cx="3384360" cy="4284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4" descr=""/>
          <p:cNvPicPr/>
          <p:nvPr/>
        </p:nvPicPr>
        <p:blipFill>
          <a:blip r:embed="rId4"/>
          <a:stretch/>
        </p:blipFill>
        <p:spPr>
          <a:xfrm>
            <a:off x="684360" y="5025960"/>
            <a:ext cx="3382920" cy="42876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5" descr=""/>
          <p:cNvPicPr/>
          <p:nvPr/>
        </p:nvPicPr>
        <p:blipFill>
          <a:blip r:embed="rId5"/>
          <a:stretch/>
        </p:blipFill>
        <p:spPr>
          <a:xfrm>
            <a:off x="5435640" y="6095880"/>
            <a:ext cx="3384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82520" y="912960"/>
            <a:ext cx="8504280" cy="147636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2" descr=""/>
          <p:cNvPicPr/>
          <p:nvPr/>
        </p:nvPicPr>
        <p:blipFill>
          <a:blip r:embed="rId2"/>
          <a:stretch/>
        </p:blipFill>
        <p:spPr>
          <a:xfrm>
            <a:off x="911160" y="2562120"/>
            <a:ext cx="8001000" cy="394200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3" descr=""/>
          <p:cNvPicPr/>
          <p:nvPr/>
        </p:nvPicPr>
        <p:blipFill>
          <a:blip r:embed="rId3"/>
          <a:stretch/>
        </p:blipFill>
        <p:spPr>
          <a:xfrm>
            <a:off x="1270080" y="922320"/>
            <a:ext cx="3887640" cy="42876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4" descr=""/>
          <p:cNvPicPr/>
          <p:nvPr/>
        </p:nvPicPr>
        <p:blipFill>
          <a:blip r:embed="rId4"/>
          <a:stretch/>
        </p:blipFill>
        <p:spPr>
          <a:xfrm>
            <a:off x="7164360" y="6014880"/>
            <a:ext cx="15112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1:14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